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7A699-EB9B-4A44-AEF5-5EBD9FE0E4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C3B0C-C5D0-4E26-968A-2BEED27D7CC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568080" y="4560480"/>
            <a:ext cx="536580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Time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G Time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CFFC-7335-42F5-994E-620BDAF7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7FE5-CBB2-4B65-B4FD-ADCE90DF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1CF0-17AC-484A-B739-FEED7CAE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1D71-1E58-4F91-9D8F-89CD677C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391B-F492-43C2-B927-9DB596FE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660B-F490-432A-9855-D81A386D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D936-333F-4E8C-B27D-675763C1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1753-F17A-49F5-95FD-0F3B022B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EDA3-F1E0-4756-84AA-CEAC7A64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-90360"/>
            <a:ext cx="7772400" cy="77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75A9-FDAE-4378-A500-17B358FF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4694-7D66-424E-B158-4EADA36B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EA45-04AB-4A90-95D7-63DDA936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FCED-EE36-49DB-92EB-1F849690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17F0-D86D-4CDE-8820-821D5C64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6803-D6A3-4434-BD6B-06839028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6C94-8506-4CC4-8543-14D35FD2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4205-C00F-447D-B9A5-A217CCE4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E317-C53A-4982-9C56-8117B56E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84F3-D56D-44D0-8B26-93520882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439F-48D2-4451-8692-BD7DFB39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-90360"/>
            <a:ext cx="7772400" cy="77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697C-A9D6-4A8C-8677-9A36525C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A625-55F1-4200-B0B3-A5B4C14A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5B61-3CCD-4E96-9885-7D73E7C3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8E4C-A16D-4CCC-9E9D-53C7AAD8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8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9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0D02-E250-43AF-BDD0-B2261D65F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AutoShape 11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3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4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5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E402-E847-4859-984F-419DA130B7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4160" y="1881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ffective Writing Basic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ips that can improve your writing in any mediu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Courier New"/>
              </a:rPr>
              <a:t>While the new ST7000 provides extensive memory and is extremely user compatible, it lacks the requisite capacity for calculating at a high rate of speed. 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Times New Roman"/>
              </a:rPr>
              <a:t>Our computer system is easy to use and has enough memory, but it is too slow.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5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Demand-side capacity combined with transmission wheeling contracts and local generation resources will be able to meet local demand and spinning reserve requirements for the next five year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SMUD will be able to save and produce enough power to meet local needs for the next five year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ive keys to effective writing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ey #4: Write with verbs and nou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the active voi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en it is okay to use passive voi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6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The company (S) sells (V)  insurance (O)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Univers"/>
                <a:ea typeface="Courier New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:  Insurance is sold by the company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The construction crew repaired the road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Univers"/>
                <a:ea typeface="Courier New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:  The road was repaired by the construction company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Tests showed the new material did not wear well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Univers"/>
                <a:ea typeface="Courier New"/>
              </a:rPr>
              <a:t>Not:</a:t>
            </a: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  When tests were run, it was discovered that good wear is not exhibited by the new material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7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  <a:ea typeface="Courier New"/>
              </a:rPr>
              <a:t>Choose the right verb and the right nou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Mr. Johnson ran quickly across the four-lane street, almost falling down when he stepped in a large hole in the concrete. (22 words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Mr. Johnson sprinted across the boulevard, stumbling when he stepped in a pothole. (13 words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ive keys to effective writing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ey #5:  Format document to improve readabilit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lists, bullets, charts, tables, indents, italics, bolds, headings and subheading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100-word rul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Plan, organize, writ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efore you begi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o is the audience (“My audience is _________.”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urpose of the message (“My purpose is________.”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ow will the reader use the information (“So that the reader will________.”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Plan, organize, writ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s you begi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emble all useful informa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termine what’s importan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hoose what to leave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ou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roup information logically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Plan, organize, write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 ways to organiz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ivis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pare/contras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ause/effe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blem-analysis solu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Division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art with main idea, then discuss the par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CME Corporation faces four problems that threaten its competitiveness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utdated marketing pla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oor service recor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igh pric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ow Mora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ive keys to effective writing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ut the reader firs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simple words and short sentenc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jargon only when necessary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rite with verbs and nou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ormat to improve readability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ompare/Contras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familiar to explain unfamili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ut the conclusion up fron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f we expand in the West we will face the same challenges as we did in expanding to the South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ack of ident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oor distribu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hort p-term cash flow proble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Untrained labor for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Problem-Analysis-Solution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ind a straightforward way to offer recommendat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shipping dock’s inability to ship product fast enough results from a inefficient tracking system.  The solution is to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vest in a new computer syste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rain staff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form customers of realistic shipping tim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udget for overtime to meet peak deman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ause/Effec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esents a clear-way analysi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-B; A-B-C-D; ABCD-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organizing the marketing department will cause two benefits and one problem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mproved account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etter communic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blem – poorer service to industrial custome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Plan, organize, writ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velop an outlin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rite the easiest part firs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velop major sections one at a tim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troduction for main idea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in point in first paragraph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urn off your internal edito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Plan, organize, writ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90% of writing is re-writing and edit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et the document coo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un a Fog tes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im to cut first draft by at least 10%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ive keys to effective writing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ey #1:  Put the reader firs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munication = understand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rite to EXpress not Impres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words readers can pictur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ie in to the reader’s experien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IIFM – What’s in it for m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ive keys to effective writing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ey #2: Use simple words and short sentenc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Courier New"/>
              </a:rPr>
              <a:t>Per our conversation, I am enclosing herewith a remittance of $25 for the balance due on my account. (18 word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Courier New"/>
              </a:rPr>
              <a:t>As we discussed, here is the $25 remaining on my account. (11 word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Courier New"/>
              </a:rPr>
              <a:t>Here is the $25 remaining on my account. (8 word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Courier New"/>
              </a:rPr>
              <a:t>As pertaining to the question of whether or not to construct a new storage facility, corporate management will ascertain the appropriateness of such an issue in the near futur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Courier New"/>
              </a:rPr>
              <a:t>Management will decide next week whether to build a new storage facility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ip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Courier New"/>
              </a:rPr>
              <a:t>Avoid wordy prepositional phras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ourier New"/>
              </a:rPr>
              <a:t>In the amount of (for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ourier New"/>
              </a:rPr>
              <a:t>In order to (to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ourier New"/>
              </a:rPr>
              <a:t>Due to the fact that (because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ourier New"/>
              </a:rPr>
              <a:t>In the event that (if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ourier New"/>
              </a:rPr>
              <a:t>During the time that (when, while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ive keys to effective writing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ey #3:  Use jargon only when necessar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at is jargon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3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Courier New"/>
              </a:rPr>
              <a:t>The new FMIS system from Global provides VOR/DME nav redundancy, as well as enhanced GPS capability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Courier New"/>
              </a:rPr>
              <a:t>Global's new flight management system provides several ways to navigate your airplane, including the latest in satellite navigation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6T20:53:53Z</dcterms:created>
  <dc:creator/>
  <dc:description/>
  <dc:language>en-US</dc:language>
  <cp:lastModifiedBy>Bright</cp:lastModifiedBy>
  <cp:lastPrinted>2009-04-22T19:24:48Z</cp:lastPrinted>
  <dcterms:modified xsi:type="dcterms:W3CDTF">2013-08-22T11:55:25Z</dcterms:modified>
  <cp:revision>17</cp:revision>
  <dc:subject/>
  <dc:title>Six keys to effective writing</dc:title>
</cp:coreProperties>
</file>